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F0B2-432D-4D8E-93BA-C266A9381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 Social Penetration Theory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ocuses on changes in personal self-disclosure. Couples start talking about superficial/impersonal topics then gradually disclose more personal and intimate details as  the uncertainty of the relationship is reduced to a comfort lev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 Social Exchange Theory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 economic model in which individuals are motivated to maximize personal gains and minimize losses in a relationship. Development is based on rewards, costs, expectations, alternatives, and personal investment in a relationshi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. Attraction Based Theories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Based on initial personal attraction to opposite sex in close proximity.  Similar physical attractiveness that is complementary as well as other similar personal characteristics is the basis of relationship develop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. Stage Theories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Relationships develop as the result of evolving through a specific set of stages in a particular order.  Each stage must be successful and must be mutually rewarding in order to move on to the next stage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9832-F049-4DB4-A686-0548C4B9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EB77-8E83-4EC1-B4AF-49425250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5EC4-6795-4D8E-AA3A-B6CD8714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9E59-0F0E-463B-92DD-0739D67A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C83F-05F9-4733-9768-5E0BCC6B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FAA6-5127-4BBF-8466-C8F0A11E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B9C1-E5B1-499C-A551-0E58508F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153B-1588-4F27-9097-F6B17864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B5BE-3EB6-45E0-BFC5-E07B5E6C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1B85-D547-456D-A386-C21B2AF6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BF52-4861-4704-87B2-38562C7D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724F-BDE8-474D-B1C8-04AF3CC0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27C5-911A-41ED-ABFC-A59901BC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0179-86DE-4CA0-982C-B5BF6AD4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6E2E-2FFF-407C-A862-9871FB4D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9D05-9A28-41B9-B050-5BFCFDC1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4A16-0488-4BA0-A855-C631B3E5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2F0A-1CC7-44BC-A9E2-50307FBE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ACC3-E7E9-426F-A659-7577842A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1DC6-0145-4E54-A42B-85CB5035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6000-2FA2-4329-9C7C-71FF9956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0FAF-36AF-4795-8A41-FA5A35F1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3323-EDF6-4E2A-9EB1-54F6B115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9602-FE01-4D71-82CB-28FA1A69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F77E-1C11-4253-A641-61F0FD02DC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147C-3303-4194-8926-A1B05FF5CD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2280" y="0"/>
            <a:ext cx="8839440" cy="59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omantic Relationships: Development Theo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. Social Penetration Theory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cuses on changes in personal self-disclosure. Couples start talking about superficial/impersonal topics then gradually disclose more personal and intimate details as  the uncertainty of the relationship is reduced to a comfort lev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. Social Exchange Theory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 economic model in which individuals are motivated to maximize personal gains and minimize losses in a relationship. Development is based on rewards, costs, expectations, alternatives, and personal investment in a relationshi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. Attraction Based Theories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Based on initial personal attraction to opposite sex in close proximity.  Similar physical attractiveness that is complementary as well as other similar personal characteristics is the basis of relationship develop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. Stage Theories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Relationships develop as the result of evolving through a specific set of stages in a particular order.  Each stage must be successful and must be mutually rewarding in order to move on to the next stage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00:16:14Z</dcterms:created>
  <dc:creator>Martel</dc:creator>
  <dc:description/>
  <dc:language>en-US</dc:language>
  <cp:lastModifiedBy>Richard Martel</cp:lastModifiedBy>
  <dcterms:modified xsi:type="dcterms:W3CDTF">2004-04-05T11:39:15Z</dcterms:modified>
  <cp:revision>5</cp:revision>
  <dc:subject/>
  <dc:title>No Slide Title</dc:title>
</cp:coreProperties>
</file>